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5DC-28F4-4EF2-A291-09670048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0AC-F3C4-49AE-8A4B-B380061C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D1B-B9BB-4CAC-9C7F-2528E59E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188-C832-49FF-80E8-A8E37247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1661A-3198-4049-8CE5-EED7CDCF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16C1D-A6E7-49E9-9409-950A0849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147B6-ADC0-4C1E-A14D-E006F2F3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CD11A-6DF0-42AE-95DF-A227B39B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B76AA-0904-48C0-857A-4797A659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387D1-6FC7-496D-AF14-F5651859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75B71-737E-4835-AD1C-BC45FF6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885-46BB-4CA6-82AE-9624B698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64159-A95B-43EE-94A2-E394B38B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52D63-EAB2-43EC-9B65-F4418BE5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571E1-A3FC-421B-88C7-E488B201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34C5B-6C37-4D7F-A666-D06A28C1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6D0F4-AC31-4DB3-9267-3CDA7D54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8BA-5899-4571-B654-0922EDDE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810-54A2-432D-90C6-270065AF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848-0AC0-4DB8-97A4-6C83738C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DA2-B3AF-4B16-96D3-DA7AA34E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158-BD62-4C72-8785-D4D71B10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7EB-363B-4134-A304-1EC07B58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9DC-F72F-4BBA-9FD0-C840FAC7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044A-8A21-44B8-83C5-7CDE48F5B270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9C8D-134D-4757-BA64-7E51E093239A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o/imgres?imgurl=http://sfinx667.files.wordpress.com/2008/07/biblia_romana_vers_17_rugaciune.jpg&amp;imgrefurl=http://sfinx777.wordpress.com/2008/07/04/imaginea-trinitara-a-sortii-mitul-ursitoarelor-i/&amp;h=360&amp;w=300&amp;sz=11&amp;tbnid=aQlX6CYDHbIEUM:&amp;tbnh=121&amp;tbnw=101&amp;prev=/images%3Fq%3Dimagini%2Bbiblie&amp;hl=ro&amp;usg=__90a8NklG7HZLlVe7ABDwDlc6Ltc=&amp;ei=nWZkSpbYKoTInAOdwLD4Dw&amp;sa=X&amp;oi=image_result&amp;resnum=4&amp;ct=image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De ce avem nevoie de Dumnezeu </a:t>
            </a:r>
            <a:r>
              <a:rPr b="0" lang="ro-RO" sz="51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41400" y="4049640"/>
            <a:ext cx="7261200" cy="14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A existat un moment in viata ta in care ai simtit prezenta lui Dumnezeu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are ar fi acesta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Tahoma"/>
              </a:rPr>
              <a:t>Ce </a:t>
            </a:r>
            <a:r>
              <a:rPr b="0" lang="ro-RO" sz="5100" spc="-1" strike="noStrike">
                <a:solidFill>
                  <a:srgbClr val="ffffff"/>
                </a:solidFill>
                <a:latin typeface="Tahoma"/>
              </a:rPr>
              <a:t>ştim acum despre </a:t>
            </a:r>
            <a:r>
              <a:rPr b="0" lang="en-US" sz="5100" spc="-1" strike="noStrike">
                <a:solidFill>
                  <a:srgbClr val="ffffff"/>
                </a:solidFill>
                <a:latin typeface="Tahoma"/>
              </a:rPr>
              <a:t>Dumnezeu?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52480" y="2971800"/>
            <a:ext cx="6782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Enumeraţi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ilele creatiei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umera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ţi 3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nuni cunoscute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rieti tainele cunoscut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http://sfinx777.wordpress.com/2008/07/04/imaginea-trinitara-a-sortii-mitul-ursitoarelor-i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2209680"/>
            <a:ext cx="3124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Ce il face pe om sa creada intr-o divinitat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dati trei exemple)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889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352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5:53:15Z</dcterms:created>
  <dc:creator>CCD Brasov</dc:creator>
  <dc:description/>
  <dc:language>en-US</dc:language>
  <cp:lastModifiedBy>User</cp:lastModifiedBy>
  <dcterms:modified xsi:type="dcterms:W3CDTF">2009-07-21T18:48:27Z</dcterms:modified>
  <cp:revision>16</cp:revision>
  <dc:subject/>
  <dc:title>Slide 1</dc:title>
</cp:coreProperties>
</file>